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7AF2-D9FD-4B0B-97F5-920754685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8BFC-5F02-4C3B-93AB-87B0EBB7E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4571-937E-42D5-90C8-3AB7D1EBA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4362-CD93-45F4-8B41-83762BC55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FD21-F963-488D-ABC6-DC1FCF1C3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7580-BE39-4136-B09E-F28678824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3CAA-23C6-4ACF-B8B7-88102C0EB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9486-F178-49E8-A718-19CE5DCA2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6803-13C5-4D49-A638-275CCBC56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B015-3CEB-4239-A877-A0C0F61F9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06C8-BF7B-4CB9-A68A-3C12CDF2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5B6F-4049-4E29-B0B0-580FFC1D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916E4-EA42-4E4B-8BC1-E026E36154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Edwardian Script ITC"/>
              </a:rPr>
              <a:t>Ride the New 25-M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Edwardian Script ITC"/>
              </a:rPr>
              <a:t>Mountain Bike Tra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Edwardian Script ITC"/>
              </a:rPr>
              <a:t>Veteran’s Pa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28600" y="1828800"/>
            <a:ext cx="85345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4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ome Play in the Dirt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" name=""/>
          <p:cNvSpPr/>
          <p:nvPr/>
        </p:nvSpPr>
        <p:spPr>
          <a:xfrm rot="19833600">
            <a:off x="228600" y="5028840"/>
            <a:ext cx="2438280" cy="121932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O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downhil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338040" y="380880"/>
            <a:ext cx="84679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25 Miles of bone-breaking, skull-crushing fun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downhil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1643040" y="304920"/>
            <a:ext cx="585792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Kozuka Gothic Pro B"/>
              </a:rPr>
              <a:t>Trails Vary from Sand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Kozuka Gothic Pro B"/>
              <a:ea typeface="Kozuka Gothic Pro 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downhil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152280" y="-76320"/>
            <a:ext cx="4343400" cy="19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To Stone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" dur="250" autoRev="1" fill="hold"/>
                                        <p:tgtEl>
                                          <p:spTgt spid="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mudd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5229360" y="3619440"/>
            <a:ext cx="3838320" cy="278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To Mud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urba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1143000" y="457200"/>
            <a:ext cx="68580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We Even Have Pavement Trails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sceni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752400" y="3108240"/>
            <a:ext cx="7639200" cy="1997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o Come and Enjoy Yourself  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5:26:11Z</dcterms:created>
  <dc:creator>762923</dc:creator>
  <dc:description/>
  <dc:language>en-US</dc:language>
  <cp:lastModifiedBy>762923</cp:lastModifiedBy>
  <dcterms:modified xsi:type="dcterms:W3CDTF">2009-03-30T16:10:57Z</dcterms:modified>
  <cp:revision>3</cp:revision>
  <dc:subject/>
  <dc:title>Slide 1</dc:title>
</cp:coreProperties>
</file>